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07E-CC77-4EAA-AF6E-FBEA49BF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4CC-907F-4DAC-8AAB-42564201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AE7-9C17-4600-AC5B-C120B422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416-9B2B-40FA-A121-28AD0061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6E59-F3F8-4BB9-8F67-F5DFAA61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DE6C-E2E1-405A-B754-5B418852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DA23-58AA-48E3-8658-283F779D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2BEE-AE60-4717-9188-20DD0FB8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4767-F198-4EF5-BE1D-D34270C9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D35-24E4-4A4A-AAE1-5A7842E8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A3B4-8FF2-4128-A6A7-14B1043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949-AFB1-48DB-AC11-907E2DF4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2575-28CB-4429-BEE1-C76CC239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FC46-D064-4475-AA00-2731A844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61A8-E202-4D8A-88E3-C079FA06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DB3-4D1C-4EDC-BA6D-76537C1D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B2D7-F1A7-473B-85EA-02CE3AB4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3853-659A-451B-9694-CF0996C2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86F4-3F05-489B-A78E-BFCAB9CD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2CDC-8576-4AF2-A803-A05C6714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FB7F-08A2-4000-9712-D58D18FF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3191-D4FB-493D-8B81-6B755496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359-2B2B-42F6-AB1C-8BDEB75C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7A22-22DD-42CC-B6DA-AD01B28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E8A6-68A4-45F8-A411-B2EBAC6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DEAF-F3D4-42F7-9C28-B203FD36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7A66-14AB-496F-B127-0DB5D82E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B86E-5579-4A44-BD84-2267FDB6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12FF-438A-4E5A-A7AC-96C2C34D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2B7E-DD99-41A0-A825-294BE655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7ADC2-3E40-4659-8C09-5021D1ED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9239-C10C-4A69-921F-415DEFE0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C68A-4D9E-4009-B799-721E9D25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0DD-963A-462D-AC36-FE034075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88B7-59C5-43E2-A65A-6F486C1E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7814-F5C9-4EAE-A9D2-57570715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EB1A-E07D-48BD-96D4-3CA5266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333C3-DF89-4061-8B71-DB6B145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0C88D-DAF9-4624-ABE6-F6153349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DF16-5FBC-4469-BBAC-CE84677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AE88-6B04-4D34-8C83-0C540B4A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1903F-3793-4714-9085-51D1B76E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54A8-27CE-4FF5-A331-1D5A712D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EC9C-C023-4143-BE2E-8D2503FB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5CE-17BF-4A10-B5CE-1B26D072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7725-D9D0-4442-BB55-C7F21F63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B21BF-61F5-423D-80A1-7079FA11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A833-41F8-418A-8F26-2C62357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6D36-F3EE-408A-A18D-5F9A2821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6B9E-D458-4A54-A401-72E196F0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1B270-DFB8-469F-9616-3A7BF76D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80E3-D259-4BEC-9136-4A94876A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19982-DAC3-4401-B88E-35F82C20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D427-BEC2-454A-97E4-BC9C5CC1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E0EB-631C-4A9F-BB1A-E373175D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148-8B72-410B-BBF1-7849BEED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B1D5B-BFC8-4DF8-AE2C-67DBE8B9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390E0-176A-4DE8-8A82-625BF588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4EEC-BD7C-413A-A894-8C54FF6B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CC494-6AD1-4873-A087-DEEAA6A9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9E67F-ECDF-4391-8AC1-18FECF80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54563-3C18-4C08-90EB-D5CFBEA9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618B-0DC7-4B3B-B3AC-AF40078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6F9D-A06E-43BC-AFF1-0BCC8765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1FC9D-6F83-43CA-B66A-C93A4AF1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8B8C7-5CCB-4EB6-872E-5C5D2E66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D5A-A69E-4884-966B-3DD3625A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AAF18-6507-4DA6-BF43-A894B89A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FCF0-4EE7-4255-ABA1-C2B0CCBA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72ADE-4DB8-40EC-8A09-91086069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7DD-AACB-483E-836F-B727853B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22D-87E7-4861-96FF-6DC7A305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349-DE1E-4320-9FAF-D8B6A6E0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43E5-DBA1-4E07-A766-8A579D20B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728-E87B-49E2-BA2E-C5C02AC5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7A78-F2F2-448A-8559-7416A09D0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B0DD-5259-4478-B1F2-DC1DC9856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8A30-2471-475A-98A7-5B94A4A84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anraalte.wikispaces.com/home" TargetMode="External"/><Relationship Id="rId3" Type="http://schemas.openxmlformats.org/officeDocument/2006/relationships/hyperlink" Target="http://vanraalte.wikispaces.com/home" TargetMode="External"/><Relationship Id="rId4" Type="http://schemas.openxmlformats.org/officeDocument/2006/relationships/hyperlink" Target="http://vanraalte.wikispaces.com/home" TargetMode="External"/><Relationship Id="rId5" Type="http://schemas.openxmlformats.org/officeDocument/2006/relationships/hyperlink" Target="http://westwood.wikispaces.com/" TargetMode="External"/><Relationship Id="rId6" Type="http://schemas.openxmlformats.org/officeDocument/2006/relationships/hyperlink" Target="http://westwood.wikispaces.com/" TargetMode="External"/><Relationship Id="rId7" Type="http://schemas.openxmlformats.org/officeDocument/2006/relationships/hyperlink" Target="http://burell9english.wikispaces.com/" TargetMode="External"/><Relationship Id="rId8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Monday, April 7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s vs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 archive of previous posts in wikis, but change history is recorde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s are quicker to change, adaptab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re visible student particip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Available Support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iki Re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ikispaces.com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(ad/links free for educatio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Sample Class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Mr. van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Raalte'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 Mat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Westwood Schoo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6"/>
              </a:rPr>
              <a:t>Flat Classroom Proje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7"/>
              </a:rPr>
              <a:t>1001 Flat World Tales Proje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Your time…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On the class wiki resource we have set up, you can click on the WIKI link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heck out a few of the wiki si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Share, brainstorm, ideas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mment in your blo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16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55744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how important is access to high-speed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es it mean to a community to have a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 Blog entry (questions on class wi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Paper due 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Plan / Tech Integration Assignment due April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 - Richardson (Page 59-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NBAC - Snyder (Page 312-3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2844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k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What is this new world anyway? A brief history of this new web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applications of wiki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wikis to share information with students and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writing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based projects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textbooks still relevant? Can you see a classroom without texts? What would replace them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iki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Using Blogs, Wikis and Podcast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s Learning To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4-07T16:48:33Z</dcterms:modified>
  <cp:revision>48</cp:revision>
  <dc:subject/>
  <dc:title>Welcome to  ED3862</dc:title>
</cp:coreProperties>
</file>